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1B72-1E2C-4057-8E69-2C220853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and perfection of Raphael’s fig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eth - </a:t>
            </a:r>
            <a:r>
              <a:rPr b="0" i="1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Winter 1946</a:t>
            </a:r>
            <a:r>
              <a:rPr b="0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, 19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Van Eyck – </a:t>
            </a:r>
            <a:r>
              <a:rPr b="0" i="1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Man with a Turban</a:t>
            </a:r>
            <a:r>
              <a:rPr b="0" lang="en-US" sz="1200" spc="-1" strike="noStrike">
                <a:solidFill>
                  <a:srgbClr val="000033"/>
                </a:solidFill>
                <a:latin typeface="Arial"/>
                <a:ea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enthaller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ulls Ey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CB0-BD6E-4E0E-ADAB-FE246E74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585-45E2-40FB-B209-1A6F6E66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905-9DEB-4B96-BB46-86A3DB7B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9AB-48E3-4FAF-A3B2-384A3F8F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9A5-A2F4-4E73-81D5-60421662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9C9-4CF5-4E60-9DCF-B08B1AF9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C5C-415D-45E7-A791-25445A33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472-B556-4440-82B7-A5AE46AF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204-7172-4E6C-BE9D-3FFA0A13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2C9-37EE-4E75-97C7-8CBF60B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09C-7B18-4421-A6B3-8472DCE8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2E2-47A1-4538-B2EA-D7ADBE9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BC32-12B9-4350-BCA8-C96613514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fornian FB"/>
              </a:rPr>
              <a:t>Pain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Temp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90880" cy="285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01840"/>
            <a:ext cx="360684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Grisa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rt 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Raphael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School of Athens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Renaissance, 1510-1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79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81240" y="1677960"/>
            <a:ext cx="47815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Tomaselli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Head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Conceptual Art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7958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Hockney, </a:t>
            </a:r>
            <a:r>
              <a:rPr b="0" i="1" lang="en-US" sz="3600" spc="-1" strike="noStrike">
                <a:solidFill>
                  <a:srgbClr val="000000"/>
                </a:solidFill>
                <a:latin typeface="Californian FB"/>
              </a:rPr>
              <a:t>Mount Fuji</a:t>
            </a: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, Post-Modernist, 19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7291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ncaustic &amp; Fre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502000" cy="1904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0844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Tempera &amp;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174840" cy="2082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410080" y="2057400"/>
            <a:ext cx="2540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Watercolor &amp; Gou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2900520"/>
            <a:ext cx="3809880" cy="2276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91280" y="2276640"/>
            <a:ext cx="25239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Materials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14880" y="1841400"/>
            <a:ext cx="25146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Acry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314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Collage &amp; Mosa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29732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3800" y="2867040"/>
            <a:ext cx="3238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You will create 2 pieces of art, using the same subject matter, but using 2 different media (oil, watercolor, acrylic, gouache, pastels, etc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You need to reproduce the exact same image on each canvas (or ½ canvas or pap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4120" y="26668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Carto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8828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Impas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801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Col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42670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Mosa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70240" y="1892160"/>
            <a:ext cx="26035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Encau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479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fornian FB"/>
              </a:rPr>
              <a:t>Fre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2338560"/>
            <a:ext cx="304812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2:19:10Z</dcterms:created>
  <dc:creator>Sheila Levi</dc:creator>
  <dc:description/>
  <dc:language>en-US</dc:language>
  <cp:lastModifiedBy>Sheila</cp:lastModifiedBy>
  <dcterms:modified xsi:type="dcterms:W3CDTF">2005-05-20T15:34:09Z</dcterms:modified>
  <cp:revision>10</cp:revision>
  <dc:subject/>
  <dc:title>PowerPoint Presentation</dc:title>
</cp:coreProperties>
</file>